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044B-659A-49EF-B91C-A3304A18B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your lesson plans in occupational programs may include presenting some type of demonstration for your students. A good demonstration can be an excellent instructional tool, but you should always be well prepared for a demonstration because a poor one is an embarrassing disas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and the next one offer some guidelines and suggestions for planning good demonstration les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B8D-0C1F-4EFD-B42D-3C752FDF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7CE-810E-4A03-BEC0-AB64C494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B47-27AF-4CBA-9A9D-0F8E3D2C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8B8-9E84-4597-B979-5485BAC2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C34-78AC-4B69-BBA0-A6012C3B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0C7-4249-4104-9CF4-E1E96C97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068-D573-47C9-8CFC-1C9FDF6F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662-18C3-4B34-992E-7091D9AB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F76-ED3F-4835-9797-87DB3A83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4D1-5D28-4DFA-A1AD-C84A162B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769-3BC8-40B4-B60F-C2F46C05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511-E138-4089-A24D-47929A3B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B19E-79BB-43D1-ABED-E04CF8B71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4572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uide to Effective Demonst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76360" y="1295280"/>
            <a:ext cx="556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use good showma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ll materials gathered, organized, and acce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sure everyone can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 parts, pieces, tools, and procedures before you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hasize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 and show at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uide to Effective Demonst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76360" y="1371240"/>
            <a:ext cx="556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age students as you go - ques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very deliberate and slow at first, then gradually reach expected speed-skil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students lead you through demon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students come up and try the skill, with others watching for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6T03:35:11Z</dcterms:created>
  <dc:creator>Compaq</dc:creator>
  <dc:description/>
  <dc:language>en-US</dc:language>
  <cp:lastModifiedBy>Floyd Ausburn</cp:lastModifiedBy>
  <dcterms:modified xsi:type="dcterms:W3CDTF">2009-01-19T23:59:12Z</dcterms:modified>
  <cp:revision>62</cp:revision>
  <dc:subject/>
  <dc:title>A Practical  Guide to Lesson Planning  for CBE</dc:title>
</cp:coreProperties>
</file>